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8C9-7186-47D7-BDDE-73F18150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E70-2ACB-43BD-8078-E50B8A8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2BA-6072-4F83-8DA9-8AFBF6DA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E12-15E2-4BA2-9390-EEFE87B1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27A-5874-4E53-8A60-EAAFF03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958-08D1-4B73-8941-57EBDA05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8B6-865A-4714-939C-D474638C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D71-B82C-4826-BCB8-919E9AB5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01B-BE1C-4FB2-8787-DCD14DA5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96C-1D39-4EB0-834F-2A803D7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433-0A49-405D-8A72-4BA00F6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2F1-3583-49CF-A9E7-87B2051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FF0-DA62-4DEB-8F02-1930BD5EA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s specific as possible, please explain the problems with each of the following thesis statements (no tricks in the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 Bloody Sunday” is a song about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ng “Sunday Bloody Sunday” is a song by U2 that is about a day in 1972 that was called “Bloody Sunda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2’s song “Sunday Bloody Sunday” talks about blood and pain that comes with battles and viol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im that is arguable and/or def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(not ob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more than a statement of personal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paper/presentation/etc a reason to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2:25:56Z</dcterms:created>
  <dc:creator>Administrator</dc:creator>
  <dc:description/>
  <dc:language>en-US</dc:language>
  <cp:lastModifiedBy>Administrator</cp:lastModifiedBy>
  <dcterms:modified xsi:type="dcterms:W3CDTF">2010-10-13T13:44:48Z</dcterms:modified>
  <cp:revision>4</cp:revision>
  <dc:subject/>
  <dc:title>Slide 1</dc:title>
</cp:coreProperties>
</file>